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C1A6-71D8-46D8-9DA5-3B34D26E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5F67-F96E-403A-8FEC-F91FCF61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6A01-62AD-4F13-B557-E0A7C324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2153-1492-49EB-B9BE-FABDFD82E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8201-A2CF-4063-8822-77FE81C3F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BA26-3A19-4C67-AC97-A395CA94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1808-D2A3-431E-9C54-A1CACBE7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EE20-8E08-484A-92D3-048AF06F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2FDA-FE21-43B2-9E4E-0C16EEAA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147A-0813-4F63-9E78-C5B46288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FAE7-1AA2-431E-B024-748F8A6C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43C8-93B9-4779-93D1-36C5380E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834B-D438-4DDB-975C-216E1298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521E-0191-4247-A871-5BE0794C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3E58-0878-4DCF-9071-DD4DF82A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70AA-B78D-40C0-8710-E77F3A14E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87A7-DF87-4265-A6C8-2ED98FB6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ADA4-A699-4FC1-A8AF-AA45C794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B4B9-9A2F-42FC-BE7E-233681E6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42C2-5FF1-4D2F-8AB9-51699092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1322-923F-4772-A3B1-0A9FB6F6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F6C2-3AD1-4729-8415-19CDA4E7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7388-01D8-4952-A7A6-927D8115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5589-BB30-4E2C-BC6E-87B97A9B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CD30-9057-4D2D-99D9-8417075F49C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1D93-79FB-4139-8278-CEE0A3EEB97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ANs &amp; WAN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QBY Middle Schoo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21</a:t>
            </a:r>
            <a:r>
              <a:rPr b="0" lang="en-US" sz="2800" spc="-1" strike="noStrike" baseline="30000">
                <a:solidFill>
                  <a:srgbClr val="0066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Century Skill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do we share informatio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lk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uri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h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adi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levis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i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ax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bsit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stant Messag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62520" y="2514600"/>
            <a:ext cx="3881160" cy="3941640"/>
          </a:xfrm>
          <a:prstGeom prst="rect">
            <a:avLst/>
          </a:prstGeom>
          <a:ln w="0">
            <a:noFill/>
          </a:ln>
        </p:spPr>
      </p:pic>
      <p:sp>
        <p:nvSpPr>
          <p:cNvPr id="10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a network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wo or more computers connected together to share resour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451480" y="2638440"/>
            <a:ext cx="2389320" cy="3170160"/>
          </a:xfrm>
          <a:prstGeom prst="rect">
            <a:avLst/>
          </a:prstGeom>
          <a:ln w="0">
            <a:noFill/>
          </a:ln>
        </p:spPr>
      </p:pic>
      <p:sp>
        <p:nvSpPr>
          <p:cNvPr id="10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3657600"/>
            <a:ext cx="39625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rint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rogram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torage Spa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nternet acces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e all networks alik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1760" y="3581280"/>
            <a:ext cx="3770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ANs- Wide area network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761000" y="2490840"/>
          <a:ext cx="3768480" cy="15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1000" y="2490840"/>
                    <a:ext cx="376848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952880" y="2438280"/>
          <a:ext cx="3173400" cy="17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2438280"/>
                    <a:ext cx="317340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267080" y="2728800"/>
          <a:ext cx="3971880" cy="307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2728800"/>
                    <a:ext cx="3971880" cy="30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4343400" y="2819520"/>
          <a:ext cx="4238640" cy="2876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43400" y="2819520"/>
                    <a:ext cx="4238640" cy="28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762120" y="2743200"/>
            <a:ext cx="3770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Ns-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cal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a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twork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4419720"/>
            <a:ext cx="377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net-Network of Network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ser Dev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075040" y="2395440"/>
            <a:ext cx="5219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 order to share files computers must have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0" y="2971800"/>
          <a:ext cx="357516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971800"/>
                    <a:ext cx="357516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2895480"/>
            <a:ext cx="289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I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P add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tworking Dev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952880" y="3276720"/>
          <a:ext cx="3441960" cy="104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3276720"/>
                    <a:ext cx="3441960" cy="104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143000" y="3276720"/>
          <a:ext cx="3454560" cy="101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276720"/>
                    <a:ext cx="345456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25146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nal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Exter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ts of a 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sts (Computer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witche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v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n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reless (WiFi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thernet is the standar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ts of a W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66294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wo or more L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out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nectio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roadba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1/T3 – high band width, dedica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ble – Shared with neighbo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SL – Digital Subscriber Li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lul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telli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7:13:53Z</dcterms:created>
  <dc:creator>sjackson</dc:creator>
  <dc:description/>
  <dc:language>en-US</dc:language>
  <cp:lastModifiedBy>jpotter</cp:lastModifiedBy>
  <dcterms:modified xsi:type="dcterms:W3CDTF">2008-09-22T17:18:30Z</dcterms:modified>
  <cp:revision>27</cp:revision>
  <dc:subject/>
  <dc:title>Lans &amp; Wans</dc:title>
</cp:coreProperties>
</file>